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B7AD-1A7B-48CA-8E14-E209A73C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B95A-2EDD-4532-98DC-8AA9E33F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A047-DB1E-495C-B82F-2CDF259D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AC8-45D7-4EC2-B1FD-232BCEBF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E4C-C4DC-4540-A18F-62928967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21D-A76B-4F42-B3F5-8DF67D61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68A8-0A21-4409-94ED-8C0D7268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B4FB-354E-4293-BFA8-C89A620B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D70F-AE33-4151-930C-FE529DAE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F52D-03A1-45CF-90E1-2827B24D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26B4-A16C-42BE-8BEA-23D9B773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39C5-049F-4269-AA81-14AEBE4E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1DA4-E4C0-4CFC-AA00-7F797B1EAE3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189000"/>
            <a:ext cx="5338800" cy="27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e Ganges riv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268360" y="2924280"/>
            <a:ext cx="5364360" cy="3933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655600" y="249552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Arial Unicode MS"/>
              </a:rPr>
              <a:t>By Ashleigh Regan 3 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he current situ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re is extreme pollution that makes the river sick, which affects 400 million people that live near the riv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polluted water causes many diseases which can make people very 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ea levels in some parts of the Bay of Bangal are rising and are making the Ganges river salty making it f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673272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roposed action and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sewerage out of the river. Clean the 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people washing clothes and themselves in the 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toilets to stop people going to the toilet in the 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ments to river banks to stop ero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732720" y="4941720"/>
            <a:ext cx="1968480" cy="15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Desired out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95480"/>
            <a:ext cx="82296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pol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ver will become cleaner and less people will get si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ill continue to use it for their holy ceremo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95640" y="3195720"/>
            <a:ext cx="438624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8:30:33Z</dcterms:created>
  <dc:creator>dregan</dc:creator>
  <dc:description/>
  <dc:language>en-US</dc:language>
  <cp:lastModifiedBy>dregan</cp:lastModifiedBy>
  <dcterms:modified xsi:type="dcterms:W3CDTF">2009-03-31T10:19:30Z</dcterms:modified>
  <cp:revision>5</cp:revision>
  <dc:subject/>
  <dc:title>Slide 1</dc:title>
</cp:coreProperties>
</file>